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3C9-E485-490C-B1E0-A0966DC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D74-A66D-4014-84BE-2159F852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9A1-69EE-4A5E-AA39-A90BE01D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29-CACF-4ADB-B2BA-E628B6FF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341-415C-418D-B870-4DAA7A5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5ED-5B14-49DA-82F5-6017CFE4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612-E879-48E2-B213-8F5B345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3C4-BDA3-43FD-86B8-F6B4D7C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A6B-2D5F-4017-A4A5-9F76068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141-E8FE-454D-B9EB-080E525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378-AB7A-456E-9383-335A312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4DE-A0C0-4A84-BF14-C215CF2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203-1F52-4C6E-9075-5C9EC6E9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22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0:46:18Z</dcterms:created>
  <dc:creator>Steve Badger</dc:creator>
  <dc:description/>
  <dc:language>en-US</dc:language>
  <cp:lastModifiedBy>Steve Badger</cp:lastModifiedBy>
  <dcterms:modified xsi:type="dcterms:W3CDTF">2006-08-24T11:03:55Z</dcterms:modified>
  <cp:revision>2</cp:revision>
  <dc:subject/>
  <dc:title>Slide 1</dc:title>
</cp:coreProperties>
</file>